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6AD-385A-458B-8C2D-6787CD77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9BD-2B96-4CE6-91A0-3C5EF235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04C-2084-40B3-8F1A-3679852D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AA1-327C-4063-B044-12459156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492-236A-443A-BED3-3E6AE941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E15-5D95-44CD-874B-847AB54E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4EA-732F-4C1D-A4BB-57D63B17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A83-8841-4FC3-BD88-AAF14AE0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7C7-ED9C-4A4E-ACED-B8E9CDF3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DEF-5102-4EF6-B6C9-5CC54B80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CF7-2427-4BB3-BC54-C959C5B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BB8-DFB9-40C2-AD01-702B085D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2731-97E3-482A-8BBF-E5239E4DD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-3ZNnsC4q4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Showcard Gothic"/>
              </a:rPr>
              <a:t>Kolonen b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1557360"/>
            <a:ext cx="4824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Kolon Genovan 1541an jaio zen ETA 1506an hil 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1080" y="1197000"/>
            <a:ext cx="3238560" cy="303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365720"/>
            <a:ext cx="9144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txikitan hasi zen nabigazioan ibiltzeko gogOArekin eta oso gazte aritu zen itsasmutil lane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 </a:t>
            </a: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geografia ikasi zuen Pis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Showcard Gothic"/>
              </a:rPr>
              <a:t>Kolonen Bida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6-3ZNnsC4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3141720"/>
            <a:ext cx="453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Showcard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Showcard Gothic"/>
              </a:rPr>
              <a:t>0:00 – 0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Showcard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Showcard Gothic"/>
              </a:rPr>
              <a:t>0:29 – 0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Showcard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Showcard Gothic"/>
              </a:rPr>
              <a:t>0:57 - 1: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Showcard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Showcard Gothic"/>
              </a:rPr>
              <a:t>1:31 – 1: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26028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Showcard Gothic"/>
              </a:rPr>
              <a:t>Asko izan ziren, Kristobal Kolonek eginiko bidaiak. Apunteak eta idatzizko notak egiten jaioa zen eta, honela, berak eginiko hainbat bidaia kontatzen di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44000" y="4365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472000" cy="432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2000" y="2637000"/>
            <a:ext cx="3132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Showcard Gothic"/>
              </a:rPr>
              <a:t>1480an Felipa Muñiz de Perestrellorekin ezkondu zen Portugalen; jatorri nobleko dama zen eta Kolon bera hala izango 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532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garai hartan zeuden mapa guztiak irakurri zituen. Indiara iristeko irrikaz zegoen, paraje haietan aberastasun handia zegoela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Urrian San Salvador uhartera iritsi zen lehenengo aldiz. berak jakin gabe, Mundu Berria aurkitu baitzuen: Amer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619520"/>
            <a:ext cx="4681440" cy="223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35640" y="4027320"/>
            <a:ext cx="2808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5:02Z</dcterms:created>
  <dc:creator>ik015111zz</dc:creator>
  <dc:description/>
  <dc:language>en-US</dc:language>
  <cp:lastModifiedBy>Ik015111zz</cp:lastModifiedBy>
  <dcterms:modified xsi:type="dcterms:W3CDTF">2012-05-17T12:55:28Z</dcterms:modified>
  <cp:revision>12</cp:revision>
  <dc:subject/>
  <dc:title>Kolonen biografia</dc:title>
</cp:coreProperties>
</file>